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amera.wav" ContentType="audio/x-wav"/>
  <Override PartName="/ppt/media/carbrake.wav" ContentType="audio/x-wav"/>
  <Override PartName="/ppt/media/whoosh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BE4EC-EC2B-4A60-8FD1-A80D3D4B7A1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7317B-E1DB-4073-8016-48CDFB23DDB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CC9FB-0752-4188-BC66-BADB4237525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4173A-757F-443C-8F87-2450F95BFE9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C5492-AC79-4B79-84A3-6D4125F869F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E1FAC-3B70-498F-A8AC-3672C0F05E7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31A08-5247-49D1-8B55-551428D9E7E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3A896-02D9-4202-805E-B8808D99E46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552A6-3C30-4873-9A08-B15032BBA38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EE326-8A49-44C5-BFAA-1AD9A5F7836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AEB1A-407F-41CA-AE59-D6D796B80A6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48F3E-BB3D-43FD-8A6F-CBF638D0C14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137EF-C51F-4C97-BB6C-BEDBC495AF7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ECEFF-B161-4FF3-90F9-B3F8A85CF80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E13E0-BB4D-4F32-B313-82EE2436837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B5FFF-3D49-4383-A2C6-F7E3E4CECF9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FB8D2-B1C1-43BF-BBB8-AA69C48AA27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5025B-38F4-431D-941E-EC3CAEE4DF9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E5610-0B49-4859-8DA4-EF5CB4C8280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39ECC-C594-4378-BA04-D03E79F45D5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A3C03-D131-4533-9D7D-D27766ABCF2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783BB-18B1-49C9-8C07-0AC03065D5F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B77F7-4B9A-4A65-9371-6233FE58E03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DF714-CB9F-4DFE-AAAE-6C1F132837C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1ADA-9AF3-49FA-B723-1157474FC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00EE-D2DA-442F-9EA4-7EC7CFE79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50C3-4011-4125-8232-0EEB22279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E35F-9F7A-4FFE-A0A8-5D23B701B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CF2E-3561-4962-A15E-262D6EC42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EF97-FA66-4BFF-BE08-E15B2EFD3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D8FD-6BA5-4154-B3F1-B7AE4BFB0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B0AF-B2A5-4247-9BBA-AC026316C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2EA8-F039-4CDE-B68B-0B0E49C4D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F2B5-2E7A-4C76-87C4-FB915C082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4D55-D640-42B9-90E9-07B2FFE1C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3B5E-1E09-4C80-9548-13E8E2D45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BA8C3-688E-461C-A9D0-704F43821B8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worldofteaching.com/" TargetMode="External"/><Relationship Id="rId2" Type="http://schemas.openxmlformats.org/officeDocument/2006/relationships/hyperlink" Target="http://www.worldofteaching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808000"/>
                </a:solidFill>
                <a:latin typeface="Comic Sans MS"/>
              </a:rPr>
              <a:t>WHAT ARE NOUNS?</a:t>
            </a:r>
            <a:r>
              <a:rPr b="1" lang="en-GB" sz="4400" spc="-1" strike="noStrike">
                <a:solidFill>
                  <a:srgbClr val="808000"/>
                </a:solidFill>
                <a:latin typeface="Stenci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Nouns are naming wor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They name people, places and objec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They can also name ideas, emotions, qualities and activit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Here are some examples of nou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Peter, Elizabeth, driver, sister, frie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Bristol, Severn, Brazil, pen, dog, mone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Love, beauty, industry, nature, greed, p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808000"/>
                </a:solidFill>
                <a:latin typeface="Comic Sans MS"/>
              </a:rPr>
              <a:t>Field-specific nou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ncountable nouns are often turned into countable nouns by specialists in a particular field.They become part of the jargon of that specialis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Gras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is usually uncountable but botanists and gardeners talk about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gras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Linguists sometimes talk about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Englishe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inanciers refer to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money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or even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monie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Tea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may be used to mean types of te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0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5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0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5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0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762120" y="762120"/>
            <a:ext cx="7619760" cy="56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Remember that both countable and uncountable nouns can be divided into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concrete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abstract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oun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 distinction between concrete and abstract nouns is the most important one of all when you are analysing linguistic data.  A lot of abstract nouns in a text will have a big impact on its registe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Plain English Campaign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has an excellent website which will tell you more about the stylistic impact of abstract noun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oncrete nou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ncrete nouns are the words that most people think of as nou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y are mostly the names of objects and animals (countable) and substances or materials (uncountable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Cake, oxygen, iron, boy, dog, pen, glass, pomegranate, earthworm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nd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door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re all concrete nou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7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2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7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808000"/>
                </a:solidFill>
                <a:latin typeface="Comic Sans MS"/>
              </a:rPr>
              <a:t>Abstract nou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bstract nouns name ideas, feelings and qualit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ost, though not all, are uncount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any are derived from adjectives and verbs and have characteristic endings such as </a:t>
            </a: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–ity, -ness, -ence,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nd </a:t>
            </a: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-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y are harder to recognise as nouns than the concrete varie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4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9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4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9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808000"/>
                </a:solidFill>
                <a:latin typeface="Comic Sans MS"/>
              </a:rPr>
              <a:t>Abstract noun or adj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You won’t confuse abstract nouns with adjectives, as long as you apply a few tes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Happy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s an adjective.  It behaves like one: </a:t>
            </a:r>
            <a:r>
              <a:rPr b="0" i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very</a:t>
            </a: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 happy; </a:t>
            </a:r>
            <a:r>
              <a:rPr b="0" i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so</a:t>
            </a: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 happy; happi</a:t>
            </a:r>
            <a:r>
              <a:rPr b="0" i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er</a:t>
            </a: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; </a:t>
            </a:r>
            <a:r>
              <a:rPr b="0" i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as</a:t>
            </a: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 happy </a:t>
            </a:r>
            <a:r>
              <a:rPr b="0" i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Happiness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behaves like a noun: </a:t>
            </a:r>
            <a:r>
              <a:rPr b="0" i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The</a:t>
            </a: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 happiness I feel; </a:t>
            </a:r>
            <a:r>
              <a:rPr b="0" i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her</a:t>
            </a: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 happiness; </a:t>
            </a:r>
            <a:r>
              <a:rPr b="0" i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great</a:t>
            </a: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 happine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3"/>
          <p:cNvSpPr/>
          <p:nvPr/>
        </p:nvSpPr>
        <p:spPr>
          <a:xfrm>
            <a:off x="1676520" y="609480"/>
            <a:ext cx="5790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A few more exam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914400" y="16002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Verb or adjectiv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4876920" y="160020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Abstract nou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914400" y="213372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We were 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different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from each othe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4876920" y="2133720"/>
            <a:ext cx="350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difference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etween u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Text Box 8"/>
          <p:cNvSpPr/>
          <p:nvPr/>
        </p:nvSpPr>
        <p:spPr>
          <a:xfrm>
            <a:off x="914400" y="30481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y work is 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precise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Text Box 9"/>
          <p:cNvSpPr/>
          <p:nvPr/>
        </p:nvSpPr>
        <p:spPr>
          <a:xfrm>
            <a:off x="4876920" y="3048120"/>
            <a:ext cx="32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 work with 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precision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914400" y="36576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 air is 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pure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Text Box 11"/>
          <p:cNvSpPr/>
          <p:nvPr/>
        </p:nvSpPr>
        <p:spPr>
          <a:xfrm>
            <a:off x="4876920" y="3657600"/>
            <a:ext cx="32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purity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of the ai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Text Box 12"/>
          <p:cNvSpPr/>
          <p:nvPr/>
        </p:nvSpPr>
        <p:spPr>
          <a:xfrm>
            <a:off x="990720" y="4191120"/>
            <a:ext cx="281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composed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this tun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Text Box 13"/>
          <p:cNvSpPr/>
          <p:nvPr/>
        </p:nvSpPr>
        <p:spPr>
          <a:xfrm>
            <a:off x="4876920" y="4191120"/>
            <a:ext cx="259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is tune is my 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composition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Text Box 14"/>
          <p:cNvSpPr/>
          <p:nvPr/>
        </p:nvSpPr>
        <p:spPr>
          <a:xfrm>
            <a:off x="990720" y="51814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t is so 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beautiful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Text Box 15"/>
          <p:cNvSpPr/>
          <p:nvPr/>
        </p:nvSpPr>
        <p:spPr>
          <a:xfrm>
            <a:off x="4876920" y="51814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t has such 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beauty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Text Box 16"/>
          <p:cNvSpPr/>
          <p:nvPr/>
        </p:nvSpPr>
        <p:spPr>
          <a:xfrm>
            <a:off x="990720" y="57150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You 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support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m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Text Box 17"/>
          <p:cNvSpPr/>
          <p:nvPr/>
        </p:nvSpPr>
        <p:spPr>
          <a:xfrm>
            <a:off x="4876920" y="571500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support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you give m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zoom dir="out"/>
  </p:transition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808000"/>
                </a:solidFill>
                <a:latin typeface="Comic Sans MS"/>
              </a:rPr>
              <a:t>The morphology of nou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ouns change their form for only two grammatical reas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untable nouns have a plural form. This is usually formed by adding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–s,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f course, but there are some irregular form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possessive form of a noun is created by adding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–’s (Henry’s cat)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r just an apostrophe (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all our students’ results)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2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7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Irregular plur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ome nouns retain plural endings from Old Englis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en, geese, mice, oxen, feet, teeth, kniv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Loan words from Latin, Greek, French and Italian sometimes keep their native end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edia, bacteria, formulae, larvae, criteria, phenomena, gateaux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raffiti, an Italian plural, is now an uncountable noun in Englis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Noun phra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hen we see a noun as performing a role in a sentence, we think of it as a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noun phrase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 noun phrase may function as the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ubject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object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of a clau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 noun phrase may consist of a single word (a noun or pronoun) or a group of wor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most important noun in a noun phrase is called the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headword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808000"/>
                </a:solidFill>
                <a:latin typeface="Comic Sans MS"/>
              </a:rPr>
              <a:t>Examples of noun phrases (headword in bracket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(She)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always bought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the same (newspaper)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A young (man) in a suit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was admiring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the (view) from the window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Concentrated sulphuric (acid)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must be handled careful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My old maths (teacher)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was Austria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7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2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7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2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808000"/>
                </a:solidFill>
                <a:latin typeface="Comic Sans MS"/>
              </a:rPr>
              <a:t>Types</a:t>
            </a:r>
            <a:r>
              <a:rPr b="0" lang="en-GB" sz="4400" spc="-1" strike="noStrike">
                <a:solidFill>
                  <a:srgbClr val="808000"/>
                </a:solidFill>
                <a:latin typeface="Times New Roman"/>
              </a:rPr>
              <a:t> </a:t>
            </a:r>
            <a:r>
              <a:rPr b="0" lang="en-GB" sz="4400" spc="-1" strike="noStrike">
                <a:solidFill>
                  <a:srgbClr val="808000"/>
                </a:solidFill>
                <a:latin typeface="Comic Sans MS"/>
              </a:rPr>
              <a:t>of nou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ll nouns can be divided into </a:t>
            </a:r>
            <a:r>
              <a:rPr b="1" i="1" lang="en-GB" sz="3200" spc="-1" strike="noStrike">
                <a:solidFill>
                  <a:srgbClr val="000000"/>
                </a:solidFill>
                <a:latin typeface="Comic Sans MS"/>
              </a:rPr>
              <a:t>common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 and </a:t>
            </a:r>
            <a:r>
              <a:rPr b="1" i="1" lang="en-GB" sz="3200" spc="-1" strike="noStrike">
                <a:solidFill>
                  <a:srgbClr val="000000"/>
                </a:solidFill>
                <a:latin typeface="Comic Sans MS"/>
              </a:rPr>
              <a:t>proper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nou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ommon nouns can then be divided into </a:t>
            </a:r>
            <a:r>
              <a:rPr b="1" i="1" lang="en-GB" sz="3200" spc="-1" strike="noStrike">
                <a:solidFill>
                  <a:srgbClr val="000000"/>
                </a:solidFill>
                <a:latin typeface="Comic Sans MS"/>
              </a:rPr>
              <a:t>countable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1" i="1" lang="en-GB" sz="3200" spc="-1" strike="noStrike">
                <a:solidFill>
                  <a:srgbClr val="000000"/>
                </a:solidFill>
                <a:latin typeface="Comic Sans MS"/>
              </a:rPr>
              <a:t>uncountable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nou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Both countable and uncountable nouns can then be further divided into </a:t>
            </a:r>
            <a:r>
              <a:rPr b="1" i="1" lang="en-GB" sz="3200" spc="-1" strike="noStrike">
                <a:solidFill>
                  <a:srgbClr val="000000"/>
                </a:solidFill>
                <a:latin typeface="Comic Sans MS"/>
              </a:rPr>
              <a:t>concrete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1" i="1" lang="en-GB" sz="3200" spc="-1" strike="noStrike">
                <a:solidFill>
                  <a:srgbClr val="000000"/>
                </a:solidFill>
                <a:latin typeface="Comic Sans MS"/>
              </a:rPr>
              <a:t>abstract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nou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e’ll look at each type in tur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808000"/>
                </a:solidFill>
                <a:latin typeface="Comic Sans MS"/>
              </a:rPr>
              <a:t>The syntax of noun phra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headword of a noun phrase may be pre-modified by determiners, adjectives or other nou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or example, </a:t>
            </a:r>
            <a:r>
              <a:rPr b="0" i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a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 l</a:t>
            </a:r>
            <a:r>
              <a:rPr b="0" i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arge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i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dinner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 (plate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t may be post-modified by a prepositional phra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is is simply a noun phrase with a preposition at the beginn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or example,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a (painting) </a:t>
            </a:r>
            <a:r>
              <a:rPr b="0" i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by Rembrandt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an you spot the modifiers in the last slide? (Left arrow key takes you bac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29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34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39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44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49" dur="5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4" dur="5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lauses modifying nou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e can use a clause (a group of words containing a verb) to post-modify a nou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 clause which post-modifies a noun is called a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relative clause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adjectival clause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ere are some exampl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This is the (house) </a:t>
            </a:r>
            <a:r>
              <a:rPr b="0" i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that Jack buil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(People) </a:t>
            </a:r>
            <a:r>
              <a:rPr b="0" i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who live in glass houses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 should not throw st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1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6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1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6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1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609480" y="762120"/>
            <a:ext cx="7848720" cy="50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at’s the end of the presentation on noun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f you want to print, remember the instructions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elect “print” from the </a:t>
            </a: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file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menu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elect: </a:t>
            </a: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hand-outs; six slides per page; pure black and whit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Click “OK”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684360" y="1052640"/>
            <a:ext cx="7920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his powerpoint was kindly donated to </a:t>
            </a:r>
            <a:r>
              <a:rPr b="0" lang="en-GB" sz="2400" spc="-1" strike="noStrike" u="sng">
                <a:solidFill>
                  <a:srgbClr val="ccccff"/>
                </a:solidFill>
                <a:uFillTx/>
                <a:latin typeface="Arial"/>
                <a:ea typeface="Arial"/>
                <a:hlinkClick r:id="rId1"/>
              </a:rPr>
              <a:t>www.worldofteaching.co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ccccff"/>
                </a:solidFill>
                <a:uFillTx/>
                <a:latin typeface="Arial"/>
                <a:ea typeface="Arial"/>
                <a:hlinkClick r:id="rId2"/>
              </a:rPr>
              <a:t>http://www.worldofteaching.com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is home to over a thousand powerpoints submitted by teachers. This is a completely free site and requires no registration. Please visit and I hope it will help in your teaching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808000"/>
                </a:solidFill>
                <a:latin typeface="Times New Roman"/>
              </a:rPr>
              <a:t>First, look again at those types and how they relat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09480" y="3276720"/>
            <a:ext cx="106704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ou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2133720" y="2286000"/>
            <a:ext cx="114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rop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2057400" y="4495680"/>
            <a:ext cx="14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omm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3809880" y="342900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ountab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3657600" y="525780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uncountab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Text Box 10"/>
          <p:cNvSpPr/>
          <p:nvPr/>
        </p:nvSpPr>
        <p:spPr>
          <a:xfrm>
            <a:off x="6629400" y="26668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bstrac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Text Box 11"/>
          <p:cNvSpPr/>
          <p:nvPr/>
        </p:nvSpPr>
        <p:spPr>
          <a:xfrm>
            <a:off x="6629400" y="38862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oncre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Text Box 12"/>
          <p:cNvSpPr/>
          <p:nvPr/>
        </p:nvSpPr>
        <p:spPr>
          <a:xfrm>
            <a:off x="6629400" y="48006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bstrac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Text Box 13"/>
          <p:cNvSpPr/>
          <p:nvPr/>
        </p:nvSpPr>
        <p:spPr>
          <a:xfrm>
            <a:off x="6629400" y="57913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oncre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Line 16"/>
          <p:cNvSpPr/>
          <p:nvPr/>
        </p:nvSpPr>
        <p:spPr>
          <a:xfrm>
            <a:off x="1523880" y="3809880"/>
            <a:ext cx="10670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Line 17"/>
          <p:cNvSpPr/>
          <p:nvPr/>
        </p:nvSpPr>
        <p:spPr>
          <a:xfrm flipV="1">
            <a:off x="1600200" y="2742840"/>
            <a:ext cx="9907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Line 18"/>
          <p:cNvSpPr/>
          <p:nvPr/>
        </p:nvSpPr>
        <p:spPr>
          <a:xfrm flipV="1">
            <a:off x="3352680" y="3886200"/>
            <a:ext cx="11430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Line 19"/>
          <p:cNvSpPr/>
          <p:nvPr/>
        </p:nvSpPr>
        <p:spPr>
          <a:xfrm>
            <a:off x="3352680" y="48006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Line 20"/>
          <p:cNvSpPr/>
          <p:nvPr/>
        </p:nvSpPr>
        <p:spPr>
          <a:xfrm flipV="1">
            <a:off x="5334120" y="3047760"/>
            <a:ext cx="175248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Line 21"/>
          <p:cNvSpPr/>
          <p:nvPr/>
        </p:nvSpPr>
        <p:spPr>
          <a:xfrm>
            <a:off x="5334120" y="373392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Line 22"/>
          <p:cNvSpPr/>
          <p:nvPr/>
        </p:nvSpPr>
        <p:spPr>
          <a:xfrm flipV="1">
            <a:off x="5562720" y="5181120"/>
            <a:ext cx="15238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Line 23"/>
          <p:cNvSpPr/>
          <p:nvPr/>
        </p:nvSpPr>
        <p:spPr>
          <a:xfrm>
            <a:off x="5562720" y="5562720"/>
            <a:ext cx="15238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zoom dir="out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roper nou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roper nouns start with capital let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y are the names of people, places, times, organisations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y refer to unique individua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ost are not found in the dictiona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y often occur in pairs or group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ere are some examp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7621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ony Blai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7086600" y="55627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King Henr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2590920" y="45720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ridget Jon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4267080" y="19810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hristma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Text Box 6"/>
          <p:cNvSpPr/>
          <p:nvPr/>
        </p:nvSpPr>
        <p:spPr>
          <a:xfrm>
            <a:off x="1295280" y="41148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hin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6553080" y="3429000"/>
            <a:ext cx="129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am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Text Box 8"/>
          <p:cNvSpPr/>
          <p:nvPr/>
        </p:nvSpPr>
        <p:spPr>
          <a:xfrm>
            <a:off x="1295280" y="243828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Keynsha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Text Box 9"/>
          <p:cNvSpPr/>
          <p:nvPr/>
        </p:nvSpPr>
        <p:spPr>
          <a:xfrm>
            <a:off x="3124080" y="35053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on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Text Box 10"/>
          <p:cNvSpPr/>
          <p:nvPr/>
        </p:nvSpPr>
        <p:spPr>
          <a:xfrm>
            <a:off x="4952880" y="4114800"/>
            <a:ext cx="152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oca Col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Text Box 11"/>
          <p:cNvSpPr/>
          <p:nvPr/>
        </p:nvSpPr>
        <p:spPr>
          <a:xfrm>
            <a:off x="1523880" y="5715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acbet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Text Box 12"/>
          <p:cNvSpPr/>
          <p:nvPr/>
        </p:nvSpPr>
        <p:spPr>
          <a:xfrm>
            <a:off x="3962520" y="289548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resident Bus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Text Box 13"/>
          <p:cNvSpPr/>
          <p:nvPr/>
        </p:nvSpPr>
        <p:spPr>
          <a:xfrm>
            <a:off x="7010280" y="53352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 Ja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Text Box 14"/>
          <p:cNvSpPr/>
          <p:nvPr/>
        </p:nvSpPr>
        <p:spPr>
          <a:xfrm>
            <a:off x="5737320" y="1523880"/>
            <a:ext cx="1349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Text Box 15"/>
          <p:cNvSpPr/>
          <p:nvPr/>
        </p:nvSpPr>
        <p:spPr>
          <a:xfrm>
            <a:off x="5562720" y="121932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oronation Stre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Text Box 16"/>
          <p:cNvSpPr/>
          <p:nvPr/>
        </p:nvSpPr>
        <p:spPr>
          <a:xfrm>
            <a:off x="4495680" y="59436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atur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Text Box 17"/>
          <p:cNvSpPr/>
          <p:nvPr/>
        </p:nvSpPr>
        <p:spPr>
          <a:xfrm>
            <a:off x="2895480" y="1447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arl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Text Box 18"/>
          <p:cNvSpPr/>
          <p:nvPr/>
        </p:nvSpPr>
        <p:spPr>
          <a:xfrm>
            <a:off x="6934320" y="25146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Joh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Text Box 19"/>
          <p:cNvSpPr/>
          <p:nvPr/>
        </p:nvSpPr>
        <p:spPr>
          <a:xfrm>
            <a:off x="6858000" y="4800600"/>
            <a:ext cx="13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ortuga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Text Box 20"/>
          <p:cNvSpPr/>
          <p:nvPr/>
        </p:nvSpPr>
        <p:spPr>
          <a:xfrm>
            <a:off x="3048120" y="52578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 Ford Motor Compan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Text Box 21"/>
          <p:cNvSpPr/>
          <p:nvPr/>
        </p:nvSpPr>
        <p:spPr>
          <a:xfrm>
            <a:off x="3809880" y="9144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Oxfa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zoom dir="out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808000"/>
                </a:solidFill>
                <a:latin typeface="Comic Sans MS"/>
              </a:rPr>
              <a:t>Common nou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ll nouns which are not proper nouns are common nou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 few examples: cup, art, paper, work, frog, bicycle, atom, family, mi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ommon nouns are either </a:t>
            </a: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countable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uncountable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808000"/>
                </a:solidFill>
                <a:latin typeface="Comic Sans MS"/>
              </a:rPr>
              <a:t>Countable</a:t>
            </a:r>
            <a:r>
              <a:rPr b="0" lang="en-GB" sz="4400" spc="-1" strike="noStrike">
                <a:solidFill>
                  <a:srgbClr val="808000"/>
                </a:solidFill>
                <a:latin typeface="Times New Roman"/>
              </a:rPr>
              <a:t> </a:t>
            </a:r>
            <a:r>
              <a:rPr b="0" lang="en-GB" sz="4400" spc="-1" strike="noStrike">
                <a:solidFill>
                  <a:srgbClr val="808000"/>
                </a:solidFill>
                <a:latin typeface="Comic Sans MS"/>
              </a:rPr>
              <a:t>nou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se these tests for countable nou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untable (or just “count”) nouns can be made plural: a tree… two trees; a man… men; a pony… pon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n the singular, they may have the determiner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r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a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: a sausage; an asteris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e ask: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How </a:t>
            </a:r>
            <a:r>
              <a:rPr b="0" i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many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 words/pages/chair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e say: A </a:t>
            </a:r>
            <a:r>
              <a:rPr b="0" i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few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minutes/friends/chip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808000"/>
                </a:solidFill>
                <a:latin typeface="Comic Sans MS"/>
              </a:rPr>
              <a:t>Uncountable nou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se these tests for uncountable nou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ncountable (or non-count) nouns cannot be made plural. We cannot say: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two funs,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three advices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r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five furniture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e never use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 a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r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an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ith th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e ask: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How much money/time/milk?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Not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How many?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e say: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A little help/effort.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(Not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A few.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808000"/>
                </a:solidFill>
                <a:latin typeface="Comic Sans MS"/>
              </a:rPr>
              <a:t>Dual category nou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ome nouns may be countable or uncountable, depending on how we use th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e buy a box of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chocolate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(countable) or a bar of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chocolate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(uncountable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e ask: H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ow much time?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but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How many times?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where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times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occasion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e sit in front of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a televisio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(set) to watch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televisio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(broadcasting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3T15:39:15Z</dcterms:created>
  <dc:creator>Tom Goss</dc:creator>
  <dc:description/>
  <dc:language>en-US</dc:language>
  <cp:lastModifiedBy>MComer</cp:lastModifiedBy>
  <cp:lastPrinted>2002-01-14T14:33:47Z</cp:lastPrinted>
  <dcterms:modified xsi:type="dcterms:W3CDTF">2010-02-17T15:32:15Z</dcterms:modified>
  <cp:revision>31</cp:revision>
  <dc:subject/>
  <dc:title>WHAT ARE NOUNS? </dc:title>
</cp:coreProperties>
</file>